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9077"/>
        <c:axId val="67911488"/>
      </c:barChart>
      <c:catAx>
        <c:axId val="3769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11488"/>
        <c:crosses val="autoZero"/>
        <c:auto val="1"/>
        <c:lblAlgn val="ctr"/>
        <c:lblOffset val="100"/>
        <c:noMultiLvlLbl val="0"/>
      </c:catAx>
      <c:valAx>
        <c:axId val="67911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9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041-F556-4EAC-8A42-AE458B66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AC3-588F-4C37-8D3B-ED792378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BA2-B096-4DF4-861E-9D7D7C05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B13-666B-4B22-A0BA-C110D81D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ABA-C713-4622-9AC2-C9275F80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FF7-3FA7-4B33-8FC7-554EAF91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D62-7F90-4CE0-A1AD-824FFB92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6E6-4353-43F6-9647-45F8BF9C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C46-83FF-490C-A1FD-5F84FAE9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2AD-5166-4E1B-8E2D-3E8D43E7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F547-594E-4884-B9EC-CD677BF2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E15-961D-442D-B88C-D77DE35C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BEFEA-4476-4D4F-AABC-622B233FF5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