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75627"/>
        <c:axId val="77471706"/>
      </c:barChart>
      <c:catAx>
        <c:axId val="54675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71706"/>
        <c:crosses val="autoZero"/>
        <c:auto val="1"/>
        <c:lblAlgn val="ctr"/>
        <c:lblOffset val="100"/>
        <c:noMultiLvlLbl val="0"/>
      </c:catAx>
      <c:valAx>
        <c:axId val="77471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75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380A-9130-4A6E-8971-F2A3F6D2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D4F-741F-43C5-85CF-4CCC7906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EBD4-92B0-4CC0-A68C-81CEE53F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D24-4931-4AFD-B68E-CEA4686F5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428D-B011-4883-9FF2-66BC7743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B5D2-7100-4FA4-B769-836E1B6A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068-4C37-48C1-9CD3-11F0F5FB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7A9-06A9-4BCB-9EFE-505A67BBD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2A2A-4783-410E-A83F-2A48FCAD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01B-3250-4B8F-B9D6-0522B7E1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C6B-2C17-4DC2-BE74-26B3D55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3F0-C41C-4DF0-AEA0-8E52CC0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8EB32-E819-4EE1-8153-C452AD7DB4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