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461164"/>
        <c:axId val="24878522"/>
      </c:barChart>
      <c:catAx>
        <c:axId val="38461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78522"/>
        <c:crosses val="autoZero"/>
        <c:auto val="1"/>
        <c:lblAlgn val="ctr"/>
        <c:lblOffset val="100"/>
        <c:noMultiLvlLbl val="0"/>
      </c:catAx>
      <c:valAx>
        <c:axId val="248785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61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4E60-4D2B-4DF9-AAFB-6EB321A1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F299-B665-4200-9D6F-F2504783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4001-2F95-435E-ADF7-AEEFC2B6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B88E-88CC-4B11-B0B7-57F6B648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424F-50CC-44F0-B7DF-B1F31AA7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6398-EE5B-4DDE-A708-FC99D8FE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4A7-8155-4CDB-9551-4D09BCEE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C87-4170-4314-866C-76E0F677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3DEC-9CE7-4DE5-AE72-80268812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D98C-D452-4E41-A5A1-3BAF50C1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8481-C635-4341-9F96-D48F63C3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B5A-960F-4A4B-8E98-3A63038F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E9BEF-72A9-46CE-8B71-3EC008B8D8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